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30BEB-EF23-4694-A370-A8188DAB1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E042B-41CE-48DB-8856-E2353CCE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AC4FA-9035-4C21-AD87-B9B4356DB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6BD79-F6E6-4225-9C79-D49EA6805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4CB9E-6D85-4118-A8EC-DCDA63639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138AE-6516-4E20-8EFE-FBB573076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83AE5-C158-474F-A499-719F16F9D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5ECCC-1007-46B8-8B47-9C54215E0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2F7F2-7AD1-4BBD-95FD-452D19B04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EFFF7-D985-40EF-9A08-13739176F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91DD8-B51D-4F0B-9B5C-60DB1AF29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9179E-6C94-4012-B057-028671FCB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EFB93-7E56-48DF-B5CF-C0CB2C3CA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026D-44BB-4C8A-B768-2E31D0BA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FB9A8-8D27-48D1-8090-552ADA1CB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7E13B-0A6E-412E-BE4A-CAEEC40B6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6200B-BDEC-427A-87DD-F1D49A09F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5530-920F-4972-8461-C3F4FA6F4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C6394-0237-4690-A73D-32387CBD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F888-4129-4A2F-9B07-B18D137CA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6E14F-6667-4C96-8EB3-AC8832DC6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6ED8E-517A-4A7D-866E-EB36D18C1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3211-D8BA-4852-B72F-B39BF068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9599-D063-418D-9AED-778B7F692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9FFC-8CC7-4AAB-8C4D-DD550F1CDB1F}"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02A0-95A6-41F5-B990-30C27A612164}"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SIMFONIA</a:t>
            </a:r>
            <a:r>
              <a:rPr b="1" lang="en-US" sz="1700" spc="-1" strike="noStrike">
                <a:solidFill>
                  <a:srgbClr val="c4c3aa"/>
                </a:solidFill>
                <a:latin typeface="Arial"/>
              </a:rPr>
              <a:t> </a:t>
            </a:r>
            <a:endParaRPr b="0" lang="en-US" sz="1700" spc="-1" strike="noStrike">
              <a:solidFill>
                <a:srgbClr val="c4c3aa"/>
              </a:solidFill>
              <a:latin typeface="Arial"/>
            </a:endParaRPr>
          </a:p>
        </p:txBody>
      </p:sp>
      <p:sp>
        <p:nvSpPr>
          <p:cNvPr id="330"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Verdana"/>
            </a:endParaRPr>
          </a:p>
        </p:txBody>
      </p:sp>
      <p:sp>
        <p:nvSpPr>
          <p:cNvPr id="33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3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4" name="Picture 10" descr=""/>
          <p:cNvPicPr/>
          <p:nvPr/>
        </p:nvPicPr>
        <p:blipFill>
          <a:blip r:embed="rId1">
            <a:grayscl/>
          </a:blip>
          <a:stretch/>
        </p:blipFill>
        <p:spPr>
          <a:xfrm>
            <a:off x="5214960" y="92880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Verdana"/>
            </a:endParaRPr>
          </a:p>
        </p:txBody>
      </p:sp>
      <p:sp>
        <p:nvSpPr>
          <p:cNvPr id="33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9</cp:lastModifiedBy>
  <dcterms:modified xsi:type="dcterms:W3CDTF">2012-06-19T10:51:36Z</dcterms:modified>
  <cp:revision>46</cp:revision>
  <dc:subject/>
  <dc:title>SALARIUL</dc:title>
</cp:coreProperties>
</file>